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441080" y="921960"/>
            <a:ext cx="4411800" cy="330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31480" y="4566960"/>
            <a:ext cx="503892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19320" y="719280"/>
            <a:ext cx="4876560" cy="3601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719280"/>
            <a:ext cx="4876560" cy="3601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19320" y="719280"/>
            <a:ext cx="4876560" cy="3601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408-0A6D-4B30-B980-DF9F1EA5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905508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360" y="4425840"/>
            <a:ext cx="905508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641-75B4-4B07-A97E-3E957B4F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36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4440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317-37D6-41FB-8AD0-B2F9F3B1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66160" y="18950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7960" y="18950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4360" y="44258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66160" y="44258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627960" y="44258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0D3-1705-4FB2-ADF6-07981967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7E04-19F0-440B-BBAE-1F55DE0A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4360" y="1895040"/>
            <a:ext cx="905508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1311-7B18-4DB7-A077-AFB73A94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905508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E11B-7575-4412-94EC-B7663405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E29E-4084-4327-A6B0-86EFC91C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0811-8DB0-4B2C-A34D-4D97C233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04720" y="135000"/>
            <a:ext cx="829800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75FB-A128-4F63-BB96-28BCB515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436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0B41-0017-441D-91A2-289AA9A6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04360" y="1895040"/>
            <a:ext cx="905508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C57-5191-4010-A7EC-9E15C84F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14440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CF49-E657-4516-A4DA-6A992405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4360" y="4425840"/>
            <a:ext cx="905508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2FF7-F4DF-4F0C-AF75-1962B3E8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905508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4360" y="4425840"/>
            <a:ext cx="905508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FFDF-483E-488C-82CF-B5CA7304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436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14440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F51A-EFD4-4FEF-9A10-0745A4F4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66160" y="18950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27960" y="18950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4360" y="44258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66160" y="44258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627960" y="4425840"/>
            <a:ext cx="2915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8B82-B1CC-47E4-ADD8-F2F259F6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905508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FB5-3E56-4BF1-BE1E-C50253CC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ACB-82A3-4E8F-9635-2C93C560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FC5-41B5-4491-ABD7-B2DFDDE2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4720" y="135000"/>
            <a:ext cx="829800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BF9-D55D-4A06-81AF-4A95456D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36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EA6-5489-4C71-88F0-AD615045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44400" y="44258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BA4-8A8B-4A1E-81EF-A793271D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4400" y="1895040"/>
            <a:ext cx="441864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4425840"/>
            <a:ext cx="9055080" cy="231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541-EA8A-42CB-AC94-B11A6F2C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78960" y="168120"/>
            <a:ext cx="1440" cy="16797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298000" cy="1409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4360" y="1895040"/>
            <a:ext cx="9055080" cy="484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4360" y="6887880"/>
            <a:ext cx="2333880" cy="48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4480" y="6887880"/>
            <a:ext cx="3173400" cy="48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4840" y="6887880"/>
            <a:ext cx="2334960" cy="48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EE7A1-4261-47EF-9F96-F112D74C6F5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988480" y="168120"/>
            <a:ext cx="855720" cy="1409760"/>
            <a:chOff x="8988480" y="168120"/>
            <a:chExt cx="855720" cy="1409760"/>
          </a:xfrm>
        </p:grpSpPr>
        <p:sp>
          <p:nvSpPr>
            <p:cNvPr id="7" name=""/>
            <p:cNvSpPr/>
            <p:nvPr/>
          </p:nvSpPr>
          <p:spPr>
            <a:xfrm>
              <a:off x="8988480" y="168120"/>
              <a:ext cx="114120" cy="1144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174240" y="168120"/>
              <a:ext cx="114120" cy="1144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58200" y="168120"/>
              <a:ext cx="114480" cy="1144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88480" y="352440"/>
              <a:ext cx="114120" cy="1141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74240" y="352440"/>
              <a:ext cx="114120" cy="1141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358200" y="352440"/>
              <a:ext cx="114480" cy="1141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543960" y="352440"/>
              <a:ext cx="114480" cy="1141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88480" y="538200"/>
              <a:ext cx="114120" cy="1141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74240" y="538200"/>
              <a:ext cx="114120" cy="1141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58200" y="538200"/>
              <a:ext cx="114480" cy="1141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543960" y="538200"/>
              <a:ext cx="114480" cy="1141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29720" y="538200"/>
              <a:ext cx="114480" cy="1141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88480" y="723960"/>
              <a:ext cx="114120" cy="1141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74240" y="723960"/>
              <a:ext cx="114120" cy="1141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58200" y="723960"/>
              <a:ext cx="114480" cy="1141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543960" y="723960"/>
              <a:ext cx="114480" cy="1141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988480" y="907920"/>
              <a:ext cx="114120" cy="1144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74240" y="907920"/>
              <a:ext cx="114120" cy="1144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58200" y="907920"/>
              <a:ext cx="114480" cy="1144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543960" y="907920"/>
              <a:ext cx="114480" cy="1144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729720" y="907920"/>
              <a:ext cx="114480" cy="1144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988480" y="1093680"/>
              <a:ext cx="114120" cy="1144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174240" y="1093680"/>
              <a:ext cx="114120" cy="1144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358200" y="1093680"/>
              <a:ext cx="114480" cy="1144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543960" y="1093680"/>
              <a:ext cx="114480" cy="1144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988480" y="1278000"/>
              <a:ext cx="114120" cy="1141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74240" y="1278000"/>
              <a:ext cx="114120" cy="1141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358200" y="1278000"/>
              <a:ext cx="114480" cy="1141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543960" y="1278000"/>
              <a:ext cx="114480" cy="1141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74240" y="1463760"/>
              <a:ext cx="114120" cy="1141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9543960" y="1463760"/>
              <a:ext cx="114480" cy="1141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064360" y="1176480"/>
            <a:ext cx="1800" cy="49561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7400" y="514440"/>
            <a:ext cx="7459560" cy="233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3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5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33880" cy="48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444480" y="6887880"/>
            <a:ext cx="3173400" cy="48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7224840" y="6887880"/>
            <a:ext cx="2334960" cy="48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DC125-9615-4121-A839-4346164E4E4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259840" y="3298680"/>
            <a:ext cx="1458720" cy="2395800"/>
            <a:chOff x="8259840" y="3298680"/>
            <a:chExt cx="1458720" cy="2395800"/>
          </a:xfrm>
        </p:grpSpPr>
        <p:sp>
          <p:nvSpPr>
            <p:cNvPr id="80" name=""/>
            <p:cNvSpPr/>
            <p:nvPr/>
          </p:nvSpPr>
          <p:spPr>
            <a:xfrm>
              <a:off x="8259840" y="3298680"/>
              <a:ext cx="20484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74120" y="3298680"/>
              <a:ext cx="20484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886960" y="3298680"/>
              <a:ext cx="20448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259840" y="3611520"/>
              <a:ext cx="20484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74120" y="3611520"/>
              <a:ext cx="20484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886960" y="3611520"/>
              <a:ext cx="20448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199440" y="3611520"/>
              <a:ext cx="204840" cy="204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59840" y="3924360"/>
              <a:ext cx="20484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74120" y="3924360"/>
              <a:ext cx="204840" cy="204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886960" y="3924360"/>
              <a:ext cx="204480" cy="204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99440" y="3924360"/>
              <a:ext cx="204840" cy="204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513720" y="3924360"/>
              <a:ext cx="204840" cy="204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59840" y="4237200"/>
              <a:ext cx="204840" cy="2062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574120" y="4237200"/>
              <a:ext cx="204840" cy="2062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886960" y="4237200"/>
              <a:ext cx="204480" cy="2062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99440" y="4237200"/>
              <a:ext cx="204840" cy="2062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59840" y="4549680"/>
              <a:ext cx="204840" cy="20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74120" y="4549680"/>
              <a:ext cx="204840" cy="20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86960" y="4549680"/>
              <a:ext cx="204480" cy="20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199440" y="4549680"/>
              <a:ext cx="204840" cy="20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513720" y="4549680"/>
              <a:ext cx="204840" cy="20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59840" y="4862520"/>
              <a:ext cx="204840" cy="204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74120" y="4862520"/>
              <a:ext cx="204840" cy="204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86960" y="4862520"/>
              <a:ext cx="204480" cy="204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99440" y="4862520"/>
              <a:ext cx="204840" cy="204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59840" y="5176800"/>
              <a:ext cx="204840" cy="204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74120" y="5176800"/>
              <a:ext cx="204840" cy="204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86960" y="5176800"/>
              <a:ext cx="204480" cy="204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99440" y="5176800"/>
              <a:ext cx="204840" cy="204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74120" y="5489640"/>
              <a:ext cx="204840" cy="204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99440" y="5489640"/>
              <a:ext cx="204840" cy="204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36600" y="3108240"/>
            <a:ext cx="9072360" cy="180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9360" y="2451240"/>
            <a:ext cx="92361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Recherche locale avec Tab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36720" y="3132000"/>
            <a:ext cx="741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niel Porum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P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0360" y="6443640"/>
            <a:ext cx="313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62560" y="6443640"/>
            <a:ext cx="3962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BA4-D290-463D-B960-E5A60EE6E37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Zoom en profondeur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662120"/>
            <a:ext cx="9220320" cy="593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702-B45B-458E-9AFB-6BDB37A25F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68360" y="4729320"/>
            <a:ext cx="7201080" cy="28670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Tabu List Length </a:t>
            </a:r>
            <a:r>
              <a:rPr b="1" i="1" lang="en-US" sz="4300" spc="-1" strike="noStrike">
                <a:solidFill>
                  <a:srgbClr val="330066"/>
                </a:solidFill>
                <a:latin typeface="Arial"/>
              </a:rPr>
              <a:t>tabulen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4720" y="1895040"/>
            <a:ext cx="9072720" cy="486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60360" indent="-36036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Le rôle de la liste tabou est d'empêcher l'algorithme de patiner sur un plateau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78000"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Après chaque transformation m, on interdit m pendant les 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</a:rPr>
              <a:t>tabulen</a:t>
            </a: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 transformations suivan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78000"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tabulen = 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ça brise un cycle de 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35640" y="6300720"/>
            <a:ext cx="1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16720" y="5724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(v)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2000" y="6300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(v)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00720" y="71928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(v)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30D-1C6B-4909-8E10-FB38D9E5BEE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Tabu List Length </a:t>
            </a:r>
            <a:r>
              <a:rPr b="1" i="1" lang="en-US" sz="4300" spc="-1" strike="noStrike">
                <a:solidFill>
                  <a:srgbClr val="330066"/>
                </a:solidFill>
                <a:latin typeface="Arial"/>
              </a:rPr>
              <a:t>tabulen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720" y="1895040"/>
            <a:ext cx="9072720" cy="486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60360" indent="-360360">
              <a:lnSpc>
                <a:spcPct val="9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La même </a:t>
            </a:r>
            <a:r>
              <a:rPr b="0" i="1" lang="fr-FR" sz="3300" spc="-1" strike="noStrike">
                <a:solidFill>
                  <a:srgbClr val="000000"/>
                </a:solidFill>
                <a:latin typeface="Arial"/>
              </a:rPr>
              <a:t>tabulen = 2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n’est PAS soufisante pour briser des cycles plus long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n peut trouver à la fois des plateaux très petits ou très gran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ongue liste tabu pour les grands plateaux et petite liste tabu pour les petits plateaux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97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600360" y="2916360"/>
            <a:ext cx="2741760" cy="142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73D-2D3C-4418-B9EC-21A9EB741F7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Une idée: longueur adaptative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2920" y="1618920"/>
            <a:ext cx="9072360" cy="486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60360" indent="-36036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oubl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tabulen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après X mouvements à la même valeur de l’objectif (patinage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378000"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On obtient une diversification : à partir d’un moment, on sera obligé de sortir du cyc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519280" y="3780000"/>
            <a:ext cx="7056360" cy="357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39E-C26A-445E-88FD-94D3F9FC91F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4720" y="134640"/>
            <a:ext cx="8304480" cy="1415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Une réalité encore plus dur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4360" y="1895400"/>
            <a:ext cx="9061560" cy="4851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Si à la place de plateaux, on a des </a:t>
            </a:r>
            <a:r>
              <a:rPr b="0" i="1" lang="fr-FR" sz="3300" spc="-1" strike="noStrike">
                <a:solidFill>
                  <a:srgbClr val="000000"/>
                </a:solidFill>
                <a:latin typeface="Arial"/>
              </a:rPr>
              <a:t>presque-plateaux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 ?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On adapte le principe 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O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n double la longueur de liste Tabou si la fonction objectif reste plus ou moins constante pour trop longtemp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On double la liste Tabou si des informations de distance nous disent qu’on est dans un état de cyclage (ou patinage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9F1-186A-49F7-9590-9FE0F94048D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2680" y="286920"/>
            <a:ext cx="8310600" cy="863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Un problème de patinag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15640" y="1079640"/>
            <a:ext cx="9575640" cy="345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Soit </a:t>
            </a:r>
            <a:r>
              <a:rPr b="0" i="1" lang="fr-FR" sz="33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 le nombre de 1 dans un bit-string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de n bits. La valeur objectif est 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</a:rPr>
              <a:t>nb                </a:t>
            </a: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: nb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</a:rPr>
              <a:t> ∈ [0, plat_start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  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plat_start     </a:t>
            </a:r>
            <a:r>
              <a:rPr b="0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: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</a:rPr>
              <a:t> nb ∈ [plat_start, plat_end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 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??                 </a:t>
            </a:r>
            <a:r>
              <a:rPr b="0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: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nb </a:t>
            </a:r>
            <a:r>
              <a:rPr b="0" i="1" lang="fr-FR" sz="2900" spc="-1" strike="noStrike">
                <a:solidFill>
                  <a:srgbClr val="000000"/>
                </a:solidFill>
                <a:latin typeface="Arial"/>
              </a:rPr>
              <a:t>∈ [plat_end, n]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4842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4842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4842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4004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24000" y="3890880"/>
            <a:ext cx="58356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A01-E709-4ABC-A8F4-8350855EA2B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4720" y="134640"/>
            <a:ext cx="8304480" cy="1415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L’espace multi-dimensionnel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11160" y="1873080"/>
            <a:ext cx="10078920" cy="46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C95-94F8-40B3-992D-00CA4594C8E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4360" y="134640"/>
            <a:ext cx="8309160" cy="14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Point faible méta-heuristiques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66240" cy="4856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4000"/>
          </a:bodyPr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Selon un livre fondateur en Intelligence Artificielle </a:t>
            </a:r>
            <a:r>
              <a:rPr b="0" i="1" lang="fr-FR" sz="3300" spc="-1" strike="noStrike">
                <a:solidFill>
                  <a:srgbClr val="000000"/>
                </a:solidFill>
                <a:latin typeface="Arial"/>
              </a:rPr>
              <a:t>[Russell &amp; Norvig.  Artificial Intelligence:  A Modern Approach, 1995]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la recherche locale ressemblerait à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« trying to find the top of Mount Everest in a thick fog while suffering from amnesia »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thick fog = pas de visibilité sur plus d'un seul pa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amnesia = pas de mémoire de long term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8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1C3-8C5D-4455-AD5D-BA410C90566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Le paysage de recherch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7280" y="1895040"/>
            <a:ext cx="9290160" cy="486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60360" indent="-36036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’ensemble de toutes les solutions candida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voisinage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726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passe d’une soluti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726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 à S’ par une opér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726"/>
              </a:spcBef>
              <a:buNone/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 type bit-fli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54520" y="3780000"/>
            <a:ext cx="5326200" cy="34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874-0EB1-4AB0-A70E-2A0F6517B4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804960"/>
            <a:ext cx="8317080" cy="75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Descente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Pure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557360"/>
            <a:ext cx="9139320" cy="2556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0000"/>
          </a:bodyPr>
          <a:p>
            <a:pPr marL="291600" indent="-29160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400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n démarre d’une solution aléatoir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400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 chaque étape, on va vers une solution voisin qui minimise l’objectif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400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n s’arrête dès qu’on peut plus descendre (dans un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minimum local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69080" y="5292720"/>
            <a:ext cx="295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=Global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=Local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6360" y="4284720"/>
            <a:ext cx="577692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260-E574-41CB-9FD1-99D6B7C2A0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4360" y="804960"/>
            <a:ext cx="8317080" cy="75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Descente P</a:t>
            </a:r>
            <a:r>
              <a:rPr b="1" lang="fr-FR" sz="4300" spc="-1" strike="noStrike">
                <a:solidFill>
                  <a:srgbClr val="000000"/>
                </a:solidFill>
                <a:latin typeface="Arial"/>
              </a:rPr>
              <a:t>ur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4360" y="1557360"/>
            <a:ext cx="9139320" cy="254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88000"/>
          </a:bodyPr>
          <a:p>
            <a:pPr marL="297360" indent="0">
              <a:spcBef>
                <a:spcPts val="825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Partir d'une solution candidate aléatoir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7360" indent="0">
              <a:spcBef>
                <a:spcPts val="825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Remplacer à chaque itération la solution courante par la meilleure solution du voisin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7360" indent="0">
              <a:spcBef>
                <a:spcPts val="825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fr-FR" sz="3300" spc="-1" strike="noStrike">
                <a:solidFill>
                  <a:srgbClr val="000000"/>
                </a:solidFill>
                <a:latin typeface="Arial"/>
              </a:rPr>
              <a:t>Arrêter lorsqu’il n'est plus possible d’améliorer =&gt; </a:t>
            </a:r>
            <a:r>
              <a:rPr b="0" i="1" lang="fr-FR" sz="3300" spc="-1" strike="noStrike">
                <a:solidFill>
                  <a:srgbClr val="000000"/>
                </a:solidFill>
                <a:latin typeface="Arial"/>
              </a:rPr>
              <a:t>minimum loc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69080" y="5292720"/>
            <a:ext cx="295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=Minimum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=Minimum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61280" y="4303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36720" y="4356000"/>
          <a:ext cx="5613480" cy="28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4356000"/>
                    <a:ext cx="561348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472000" y="6659640"/>
            <a:ext cx="216000" cy="216000"/>
          </a:xfrm>
          <a:prstGeom prst="ellipse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16720" y="6443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08360" y="6300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44720" y="5075280"/>
            <a:ext cx="142920" cy="144360"/>
          </a:xfrm>
          <a:prstGeom prst="ellipse">
            <a:avLst/>
          </a:prstGeom>
          <a:solidFill>
            <a:srgbClr val="cc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16360" y="5075280"/>
            <a:ext cx="142920" cy="144360"/>
          </a:xfrm>
          <a:prstGeom prst="ellipse">
            <a:avLst/>
          </a:prstGeom>
          <a:solidFill>
            <a:srgbClr val="cc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56000" y="6443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96000" y="5435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959280" y="5219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 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0B1-DD29-4C95-83E8-48FB2059C95F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77925E-007 5.58706E-007 C -0.00095 0.00798 -0.00142 0.01596 -1.77925E-007 0.02394 C -0.00047 0.04306 -0.00079 0.06091 -0.00047 0.08002 C -0.00079 0.09662 -0.00142 0.11258 -0.00095 0.12917 C 0.00016 0.12686 -1.77925E-007 0.12812 -1.77925E-007 0.12602 L -0.01937 0.12728 L -0.01748 0.17706 L -0.03071 0.17706 E">
                                      <p:cBhvr>
                                        <p:cTn id="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54448E-006 6.78429E-007 C 0.00079 0.00819 0.00047 0.00294 -2.54448E-006 0.01386 C -0.00016 0.01764 -0.00047 0.0252 -0.00047 0.0252 L 0.01748 0.0252 L 0.01842 0.04348 L 0.03732 0.04348 L 0.03637 0.09011 L 0.05432 0.09074 L 0.05338 0.15123 L 0.09258 0.15123 E">
                                      <p:cBhvr>
                                        <p:cTn id="1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Descente pure: plusieurs cas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4720" y="1895040"/>
            <a:ext cx="9072720" cy="486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25"/>
              </a:spcBef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55640" y="1893960"/>
            <a:ext cx="7705800" cy="4795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48360" y="2843280"/>
            <a:ext cx="146160" cy="144360"/>
          </a:xfrm>
          <a:prstGeom prst="ellipse">
            <a:avLst/>
          </a:prstGeom>
          <a:solidFill>
            <a:srgbClr val="cc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16720" y="4427640"/>
            <a:ext cx="144360" cy="144360"/>
          </a:xfrm>
          <a:prstGeom prst="ellipse">
            <a:avLst/>
          </a:prstGeom>
          <a:solidFill>
            <a:srgbClr val="cc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64000" y="2340000"/>
            <a:ext cx="144360" cy="144360"/>
          </a:xfrm>
          <a:prstGeom prst="ellipse">
            <a:avLst/>
          </a:prstGeom>
          <a:solidFill>
            <a:srgbClr val="cc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334-CF5D-4C9E-9448-C53362E35027}" type="slidenum">
              <a:t>6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evt="end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Motion origin="layout" path="M 1.20101E-006 2.35294E-006 L -0.0499 0.17164 E">
                                      <p:cBhvr>
                                        <p:cTn id="17" dur="3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6 0.00021 C 0.00425 0.00211 0.0074 0.00526 0.0118 0.00715 C 0.01306 0.00841 0.01479 0.00904 0.01574 0.01072 C 0.01668 0.01219 0.01715 0.01618 0.01715 0.01639 C 0.0181 0.01786 0.01857 0.02017 0.01983 0.02143 C 0.02392 0.02584 0.02896 0.02143 0.03179 0.02858 C 0.02943 0.03782 0.02314 0.04433 0.01983 0.05358 C 0.02487 0.05105 0.02676 0.05316 0.03179 0.05526 C 0.03305 0.06072 0.03305 0.06513 0.03715 0.06765 C 0.0384 0.06702 0.04014 0.06471 0.04108 0.06597 C 0.04218 0.06744 0.03715 0.07668 0.03715 0.0769 C 0.03604 0.07795 0.03447 0.07774 0.03305 0.07837 C 0.03179 0.07963 0.03006 0.08026 0.02912 0.08194 C 0.02817 0.08341 0.0277 0.0874 0.0277 0.08761 C 0.03038 0.09244 0.03715 0.1061 0.0384 0.11051 C 0.03888 0.11219 0.03856 0.11513 0.03982 0.11576 C 0.04265 0.11723 0.04596 0.11576 0.04911 0.11576 C 0.04816 0.11408 0.04785 0.10946 0.04643 0.11051 C 0.0436 0.1124 0.04376 0.11891 0.04108 0.12122 C 0.03195 0.129 0.03526 0.12521 0.03038 0.13173 C 0.03179 0.13299 0.0329 0.13467 0.03447 0.1353 C 0.0384 0.13656 0.04265 0.1353 0.04643 0.13719 C 0.04769 0.13782 0.04911 0.1479 0.04911 0.14958 L 0.04643 0.13887 E">
                                      <p:cBhvr>
                                        <p:cTn id="21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path" presetID="1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9 -0.02374 C -0.03825 -0.04454 -0.02015 -0.05714 -0.00032 -0.05714 C 0.01936 -0.05714 0.03746 -0.04454 0.05005 -0.02374 C 0.03746 -0.00357 0.01936 0.00966 -0.00032 0.00966 C -0.02015 0.00966 -0.03825 -0.00357 -0.0499 -0.02374 Z">
                                      <p:cBhvr>
                                        <p:cTn id="2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40000" y="4356000"/>
            <a:ext cx="6292800" cy="2914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4360" y="150480"/>
            <a:ext cx="8317080" cy="1414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Si on admets des mouvement qui dégradent le coût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4720" y="1858680"/>
            <a:ext cx="9074160" cy="215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24000" indent="-3240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400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900" spc="-1" strike="noStrike" u="sng">
                <a:solidFill>
                  <a:srgbClr val="000000"/>
                </a:solidFill>
                <a:uFillTx/>
                <a:latin typeface="Arial"/>
              </a:rPr>
              <a:t>Risque : répéter certain mouvements</a:t>
            </a:r>
            <a:r>
              <a:rPr b="0" lang="fr-FR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400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La recherche Tabou vise à bloquer les répéti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2400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Liste Tabou = les mouvement interdits à l’itération courant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49840" y="3541680"/>
            <a:ext cx="1587240" cy="2619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460-9810-49F3-90E7-563EF59E09E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5640" y="149040"/>
            <a:ext cx="8605800" cy="1414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Une évolution classique du coût au cours des itérations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03280" y="1692360"/>
            <a:ext cx="8713800" cy="5494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319640" y="6300720"/>
            <a:ext cx="1512720" cy="287280"/>
          </a:xfrm>
          <a:prstGeom prst="rect">
            <a:avLst/>
          </a:prstGeom>
          <a:noFill/>
          <a:ln cap="sq" w="255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92720" y="5796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824360" y="565164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408720" y="1908000"/>
            <a:ext cx="39592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757-F69C-4FB0-915B-304A39AD9EB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2160" y="149400"/>
            <a:ext cx="9005760" cy="855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Zoom </a:t>
            </a: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d’échelle</a:t>
            </a: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fr-FR" sz="4300" spc="-1" strike="noStrike">
                <a:solidFill>
                  <a:srgbClr val="330066"/>
                </a:solidFill>
                <a:latin typeface="Arial"/>
              </a:rPr>
              <a:t>moyenn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87280" y="1635120"/>
          <a:ext cx="864072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635120"/>
                    <a:ext cx="864072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896000" y="2050920"/>
            <a:ext cx="1008000" cy="1584360"/>
          </a:xfrm>
          <a:prstGeom prst="rect">
            <a:avLst/>
          </a:prstGeom>
          <a:noFill/>
          <a:ln cap="sq" w="255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111640" y="3851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65E-F4E1-485A-9A40-435AFCEA321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5-05-09T20:45:18Z</dcterms:modified>
  <cp:revision>68</cp:revision>
  <dc:subject/>
  <dc:title>Slide 1</dc:title>
</cp:coreProperties>
</file>